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5A96-7A35-45B5-9A29-0FA14BB3C41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C656-4923-4E9C-A442-371C66B395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5566-2CE8-4AA7-8465-F189AC0B6D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86AC-0686-42AB-B2F1-B23E32DA0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E4E6-8378-4EB3-8CF9-E532600BA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192D-B3A8-4D00-B40C-07CD41301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AD40-DD15-47D1-AA4A-284124460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9B76A-5A32-49B1-898F-B3956EBF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845F3-6285-49EE-9377-E7E80F6C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0D088-BD7C-440F-A932-46FF6589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34BC7-00A7-4E43-94BE-98B8245B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1DB43-1164-4BD4-AC7F-267D79B1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98AB3-7ECB-4639-9513-3B19D04D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E55EF-460F-4804-B998-9D2C6F3C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E6A10-D62A-48C3-AA94-5DB61148A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F06DC-F928-4256-B3C2-546A3329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D6E96-9648-4CD7-88D6-1B13815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9723B-6A38-42A7-A504-62D7AAF1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94E6C-C71E-47B7-BCBC-30D0A60B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66D65-B524-40B5-B5FE-1575C117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97917-D53D-489D-9562-9010E110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06D2F-290E-4E70-98DA-C36D8131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DD52C-34E7-4998-8D8E-63F67317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7CD72-E6DE-477F-90C8-24649889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23E4B-A952-4432-A411-006E567D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00D2-4FF0-4326-8A21-E6EB8468D3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D1BE9-CF5A-4BE1-A488-34F9A335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CEBA3-DE1E-4B7B-8C5A-A0F81839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5124C-9A31-4AD0-8ABB-3AB6F9BD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483CC-D284-4EB6-AFD4-E68864E0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54A74-3121-4143-92F5-80B90804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F0680-D702-4EB3-AD89-74171F48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0AFE8-50FA-4CBA-9709-2B81EF19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27EBAB-D60D-4DB1-9995-4E1E03B2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FE6F1-7CC6-4BB4-A0E3-96583B59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96F0B-D25D-4F46-A786-C6F06C2E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1AE6-BDDE-4BF1-8A64-3C842147BA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BB10F-8E84-46A0-88A1-D9E12E20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86119-3378-4872-9803-91AEBC01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1E4D3-1DBD-4BF8-A5AA-A52A4C08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25B61-DA88-42D0-A478-F4EF293D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E7C8B-1DAE-43DC-BF46-4AC61CF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1DD80-41ED-4042-9EBA-AF891301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E9747-1F1F-44DB-A800-7F181031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073A7-8A51-486A-8C9D-751E456E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8232B-7271-4C09-B1C1-E88C037A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27160-0DD9-47E8-A991-C3544330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CF6B-9182-4F46-8A65-734F0C8A9E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C7AF4-BEE5-49F7-982B-ADA98720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3A674-65ED-46FD-B135-3B2B5946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FBD0F-2D3A-4C94-8F8B-8D073133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546BC-ABFF-4D0D-A7C7-D771F4CD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41FC9-11D9-4F52-8AE7-2F74C4EA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9B845-813A-4E38-80EA-C21994A4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44B16-5EF1-4D0D-B333-909A5255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4EC16-EDB9-49DC-BE44-E0A2EFC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F3AEB-BFD2-463A-B862-4201628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BD62D-C78D-4D33-B9E6-454109C8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E609-9159-4B16-B071-DC2ED98ADF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286CB-21A1-4391-B101-1F5E8905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8AC2-2359-432D-BEC0-38680AFBD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9BAF-81C4-43F2-A8D2-CA50BB044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7691-86ED-43DC-8B88-9E7804673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2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992D-EB6B-48F5-8336-3BA4BE069851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2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AADC-D066-40FA-AC78-B9E6CDF161D1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2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95E1-A977-4A3F-89F5-DA9F97B6A57C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2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3CA4-1BEE-4DE1-A446-CBE75C8F473D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3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2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4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02D1-51EA-4844-8589-819FD914A537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5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A2A0-682C-4B93-B5A4-7315AA41A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611280" y="1989000"/>
            <a:ext cx="7772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76092"/>
                </a:solidFill>
                <a:latin typeface="Calibri"/>
              </a:rPr>
              <a:t>The SITEX European network foreseen functions, potential interactions of SITEX with the civil socie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ristophe Serres, Gilles Hériard Dubreu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TE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Calibri"/>
              </a:rPr>
              <a:t>Senec, Slovakia, 17/09/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124000" y="6165720"/>
            <a:ext cx="60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Calibri"/>
              </a:rPr>
              <a:t>EC FP7 SITEX Project  –Meeting –</a:t>
            </a:r>
            <a:r>
              <a:rPr b="1" lang="en-GB" sz="1200" spc="-1" strike="noStrike">
                <a:solidFill>
                  <a:srgbClr val="a6a6a6"/>
                </a:solidFill>
                <a:latin typeface="Calibri"/>
              </a:rPr>
              <a:t>16 - 17 September 2013, Senec, Slovak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numéro de diapositive 5"/>
          <p:cNvSpPr/>
          <p:nvPr/>
        </p:nvSpPr>
        <p:spPr>
          <a:xfrm>
            <a:off x="7164360" y="640728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F889-F402-4EA1-BFD2-0A5F2CF84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11"/>
          <p:cNvSpPr/>
          <p:nvPr/>
        </p:nvSpPr>
        <p:spPr>
          <a:xfrm rot="2052600">
            <a:off x="1182960" y="4494600"/>
            <a:ext cx="141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12"/>
          <p:cNvSpPr/>
          <p:nvPr/>
        </p:nvSpPr>
        <p:spPr>
          <a:xfrm rot="2071200">
            <a:off x="1858320" y="379260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gulator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1556640" y="4079880"/>
            <a:ext cx="1143000" cy="782640"/>
          </a:xfrm>
          <a:prstGeom prst="line">
            <a:avLst/>
          </a:prstGeom>
          <a:ln w="38160">
            <a:solidFill>
              <a:srgbClr val="31859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13"/>
          <p:cNvSpPr/>
          <p:nvPr/>
        </p:nvSpPr>
        <p:spPr>
          <a:xfrm rot="19558800">
            <a:off x="1430640" y="1258920"/>
            <a:ext cx="100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Group 2"/>
          <p:cNvGrpSpPr/>
          <p:nvPr/>
        </p:nvGrpSpPr>
        <p:grpSpPr>
          <a:xfrm>
            <a:off x="3635280" y="4005360"/>
            <a:ext cx="1944720" cy="936360"/>
            <a:chOff x="3635280" y="4005360"/>
            <a:chExt cx="1944720" cy="936360"/>
          </a:xfrm>
        </p:grpSpPr>
        <p:sp>
          <p:nvSpPr>
            <p:cNvPr id="230" name="Rectangle 5"/>
            <p:cNvSpPr/>
            <p:nvPr/>
          </p:nvSpPr>
          <p:spPr>
            <a:xfrm>
              <a:off x="3635280" y="4005360"/>
              <a:ext cx="1944720" cy="936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 Box 6"/>
            <p:cNvSpPr/>
            <p:nvPr/>
          </p:nvSpPr>
          <p:spPr>
            <a:xfrm>
              <a:off x="3902040" y="414648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Regulator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7"/>
          <p:cNvSpPr/>
          <p:nvPr/>
        </p:nvSpPr>
        <p:spPr>
          <a:xfrm>
            <a:off x="3635280" y="820800"/>
            <a:ext cx="1944720" cy="936720"/>
          </a:xfrm>
          <a:prstGeom prst="rect">
            <a:avLst/>
          </a:prstGeom>
          <a:solidFill>
            <a:srgbClr val="31859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Group 1"/>
          <p:cNvGrpSpPr/>
          <p:nvPr/>
        </p:nvGrpSpPr>
        <p:grpSpPr>
          <a:xfrm>
            <a:off x="324000" y="2565360"/>
            <a:ext cx="1944360" cy="936720"/>
            <a:chOff x="324000" y="2565360"/>
            <a:chExt cx="1944360" cy="936720"/>
          </a:xfrm>
        </p:grpSpPr>
        <p:sp>
          <p:nvSpPr>
            <p:cNvPr id="234" name="Rectangle 9"/>
            <p:cNvSpPr/>
            <p:nvPr/>
          </p:nvSpPr>
          <p:spPr>
            <a:xfrm>
              <a:off x="324000" y="2565360"/>
              <a:ext cx="1944360" cy="93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 Box 10"/>
            <p:cNvSpPr/>
            <p:nvPr/>
          </p:nvSpPr>
          <p:spPr>
            <a:xfrm>
              <a:off x="490320" y="2800080"/>
              <a:ext cx="166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Implement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Line 20"/>
          <p:cNvSpPr/>
          <p:nvPr/>
        </p:nvSpPr>
        <p:spPr>
          <a:xfrm flipV="1">
            <a:off x="4327920" y="1844280"/>
            <a:ext cx="1800" cy="2016360"/>
          </a:xfrm>
          <a:prstGeom prst="line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3211560" y="26028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B9BD-5490-4BC9-884C-96908DA419AC}" type="slidenum">
              <a:rPr b="0" lang="fr-B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20"/>
          <p:cNvSpPr/>
          <p:nvPr/>
        </p:nvSpPr>
        <p:spPr>
          <a:xfrm flipH="1" flipV="1">
            <a:off x="4896000" y="1934640"/>
            <a:ext cx="360" cy="1962360"/>
          </a:xfrm>
          <a:prstGeom prst="line">
            <a:avLst/>
          </a:prstGeom>
          <a:ln w="57240">
            <a:solidFill>
              <a:srgbClr val="31859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20"/>
          <p:cNvSpPr/>
          <p:nvPr/>
        </p:nvSpPr>
        <p:spPr>
          <a:xfrm flipV="1">
            <a:off x="1522440" y="1327680"/>
            <a:ext cx="1419120" cy="878400"/>
          </a:xfrm>
          <a:prstGeom prst="line">
            <a:avLst/>
          </a:prstGeom>
          <a:ln w="38160">
            <a:solidFill>
              <a:srgbClr val="31859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2987640" y="220500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gulator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ectation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888440" y="3068640"/>
            <a:ext cx="115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 f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gulatory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ine 20"/>
          <p:cNvSpPr/>
          <p:nvPr/>
        </p:nvSpPr>
        <p:spPr>
          <a:xfrm>
            <a:off x="1563120" y="3861360"/>
            <a:ext cx="1280520" cy="857880"/>
          </a:xfrm>
          <a:prstGeom prst="line">
            <a:avLst/>
          </a:prstGeom>
          <a:ln w="38160">
            <a:solidFill>
              <a:srgbClr val="31859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6172200" y="1385640"/>
            <a:ext cx="1368000" cy="862920"/>
          </a:xfrm>
          <a:prstGeom prst="line">
            <a:avLst/>
          </a:prstGeom>
          <a:ln w="38160">
            <a:solidFill>
              <a:srgbClr val="31859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13"/>
          <p:cNvSpPr/>
          <p:nvPr/>
        </p:nvSpPr>
        <p:spPr>
          <a:xfrm rot="1915200">
            <a:off x="6644520" y="122904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20"/>
          <p:cNvSpPr/>
          <p:nvPr/>
        </p:nvSpPr>
        <p:spPr>
          <a:xfrm flipH="1">
            <a:off x="6255360" y="3870360"/>
            <a:ext cx="1284120" cy="701280"/>
          </a:xfrm>
          <a:prstGeom prst="line">
            <a:avLst/>
          </a:prstGeom>
          <a:ln w="38160">
            <a:solidFill>
              <a:srgbClr val="31859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11"/>
          <p:cNvSpPr/>
          <p:nvPr/>
        </p:nvSpPr>
        <p:spPr>
          <a:xfrm rot="19818000">
            <a:off x="6698160" y="427680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43"/>
          <p:cNvSpPr/>
          <p:nvPr/>
        </p:nvSpPr>
        <p:spPr>
          <a:xfrm>
            <a:off x="3132000" y="692280"/>
            <a:ext cx="2881440" cy="44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7189920" y="2546280"/>
            <a:ext cx="1558800" cy="936720"/>
            <a:chOff x="7189920" y="2546280"/>
            <a:chExt cx="1558800" cy="936720"/>
          </a:xfrm>
        </p:grpSpPr>
        <p:sp>
          <p:nvSpPr>
            <p:cNvPr id="249" name="Rectangle 5"/>
            <p:cNvSpPr/>
            <p:nvPr/>
          </p:nvSpPr>
          <p:spPr>
            <a:xfrm>
              <a:off x="7189920" y="2546280"/>
              <a:ext cx="1558800" cy="93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 Box 6"/>
            <p:cNvSpPr/>
            <p:nvPr/>
          </p:nvSpPr>
          <p:spPr>
            <a:xfrm>
              <a:off x="7417440" y="270864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Socie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00000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Line 16"/>
          <p:cNvSpPr/>
          <p:nvPr/>
        </p:nvSpPr>
        <p:spPr>
          <a:xfrm>
            <a:off x="6171480" y="1628640"/>
            <a:ext cx="1190520" cy="728640"/>
          </a:xfrm>
          <a:prstGeom prst="line">
            <a:avLst/>
          </a:prstGeom>
          <a:ln w="38160">
            <a:solidFill>
              <a:srgbClr val="31859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ine 20"/>
          <p:cNvSpPr/>
          <p:nvPr/>
        </p:nvSpPr>
        <p:spPr>
          <a:xfrm flipH="1">
            <a:off x="1649880" y="1520280"/>
            <a:ext cx="1381680" cy="852120"/>
          </a:xfrm>
          <a:prstGeom prst="line">
            <a:avLst/>
          </a:prstGeom>
          <a:ln w="38160">
            <a:solidFill>
              <a:srgbClr val="31859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20"/>
          <p:cNvSpPr/>
          <p:nvPr/>
        </p:nvSpPr>
        <p:spPr>
          <a:xfrm flipH="1">
            <a:off x="6198120" y="3703680"/>
            <a:ext cx="1284120" cy="701280"/>
          </a:xfrm>
          <a:prstGeom prst="line">
            <a:avLst/>
          </a:prstGeom>
          <a:ln w="38160">
            <a:solidFill>
              <a:srgbClr val="31859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9"/>
          <p:cNvSpPr/>
          <p:nvPr/>
        </p:nvSpPr>
        <p:spPr>
          <a:xfrm rot="16200000">
            <a:off x="8366400" y="590400"/>
            <a:ext cx="83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v. 2013-04-26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2563560" y="374760"/>
            <a:ext cx="412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Regulatory body and its supporting organizations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pied de page 4"/>
          <p:cNvSpPr/>
          <p:nvPr/>
        </p:nvSpPr>
        <p:spPr>
          <a:xfrm>
            <a:off x="1908000" y="5373720"/>
            <a:ext cx="5340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SITEX: the expertise function and its interactions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Flèche courbée vers le haut 3"/>
          <p:cNvGrpSpPr/>
          <p:nvPr/>
        </p:nvGrpSpPr>
        <p:grpSpPr>
          <a:xfrm>
            <a:off x="1279440" y="5553000"/>
            <a:ext cx="6589800" cy="835200"/>
            <a:chOff x="1279440" y="5553000"/>
            <a:chExt cx="6589800" cy="835200"/>
          </a:xfrm>
        </p:grpSpPr>
        <p:pic>
          <p:nvPicPr>
            <p:cNvPr id="258" name="Flèche courbée vers le haut 3" descr=""/>
            <p:cNvPicPr/>
            <p:nvPr/>
          </p:nvPicPr>
          <p:blipFill>
            <a:blip r:embed="rId1"/>
            <a:stretch/>
          </p:blipFill>
          <p:spPr>
            <a:xfrm>
              <a:off x="1279440" y="5553000"/>
              <a:ext cx="65898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1403280" y="5589720"/>
              <a:ext cx="64087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Triangle isocèle 41001"/>
          <p:cNvSpPr/>
          <p:nvPr/>
        </p:nvSpPr>
        <p:spPr>
          <a:xfrm>
            <a:off x="7524720" y="5373720"/>
            <a:ext cx="432000" cy="14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riangle isocèle 75"/>
          <p:cNvSpPr/>
          <p:nvPr/>
        </p:nvSpPr>
        <p:spPr>
          <a:xfrm>
            <a:off x="1187280" y="5373720"/>
            <a:ext cx="432000" cy="14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SITEX Func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TEX Functions (at European Level) to contribute to the quality of National Expertise Fun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00000"/>
                </a:solidFill>
                <a:latin typeface="Calibri"/>
              </a:rPr>
              <a:t>Training, competence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800000"/>
                </a:solidFill>
                <a:latin typeface="Calibri"/>
              </a:rPr>
              <a:t>Review practices &amp;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3200" spc="-1" strike="noStrike">
                <a:solidFill>
                  <a:srgbClr val="953735"/>
                </a:solidFill>
                <a:latin typeface="Calibri"/>
              </a:rPr>
              <a:t>R&amp;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800000"/>
                </a:solidFill>
                <a:latin typeface="Calibri"/>
              </a:rPr>
              <a:t>Experts interacting with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pied de page 3"/>
          <p:cNvSpPr/>
          <p:nvPr/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2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16A1-D26C-455E-9B77-B069E8DA93F7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Interactions Functions/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pportunities of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 patterns of interaction considered :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Calibri"/>
              </a:rPr>
              <a:t>Sharing national experiences and prospective view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Calibri"/>
              </a:rPr>
              <a:t>Cooperating &amp; sharing resources (human resources, facilities, tools, fundings) on a bilateral or multilateral bas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Calibri"/>
              </a:rPr>
              <a:t>Building joint programs, developing a common model of Expertise Function, harmoniz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pied de page 3"/>
          <p:cNvSpPr/>
          <p:nvPr/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2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CE0F-07B5-491A-B0A4-4AC3D2634ADA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7"/>
          <p:cNvSpPr/>
          <p:nvPr/>
        </p:nvSpPr>
        <p:spPr>
          <a:xfrm rot="5400000">
            <a:off x="2236680" y="4689360"/>
            <a:ext cx="673200" cy="1114560"/>
          </a:xfrm>
          <a:prstGeom prst="rect">
            <a:avLst/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69"/>
          <p:cNvSpPr/>
          <p:nvPr/>
        </p:nvSpPr>
        <p:spPr>
          <a:xfrm>
            <a:off x="1773360" y="4822560"/>
            <a:ext cx="15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3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i="1" lang="fr-FR" sz="1300" spc="-1" strike="noStrike">
                <a:solidFill>
                  <a:srgbClr val="800000"/>
                </a:solidFill>
                <a:latin typeface="Calibri"/>
              </a:rPr>
              <a:t>Experts inter-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i="1" lang="fr-FR" sz="1300" spc="-1" strike="noStrike">
                <a:solidFill>
                  <a:srgbClr val="800000"/>
                </a:solidFill>
                <a:latin typeface="Calibri"/>
              </a:rPr>
              <a:t>-acting with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800000"/>
                </a:solidFill>
                <a:latin typeface="Calibri"/>
              </a:rPr>
              <a:t>Civil societ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73"/>
          <p:cNvSpPr/>
          <p:nvPr/>
        </p:nvSpPr>
        <p:spPr>
          <a:xfrm rot="5400000">
            <a:off x="7275240" y="796680"/>
            <a:ext cx="1244520" cy="1279440"/>
          </a:xfrm>
          <a:prstGeom prst="rect">
            <a:avLst/>
          </a:prstGeom>
          <a:solidFill>
            <a:srgbClr val="dce6f2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5"/>
          <p:cNvSpPr/>
          <p:nvPr/>
        </p:nvSpPr>
        <p:spPr>
          <a:xfrm rot="5400000">
            <a:off x="3651120" y="775800"/>
            <a:ext cx="1238400" cy="1378080"/>
          </a:xfrm>
          <a:prstGeom prst="rect">
            <a:avLst/>
          </a:prstGeom>
          <a:solidFill>
            <a:srgbClr val="dce6f2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oneTexte 76"/>
          <p:cNvSpPr/>
          <p:nvPr/>
        </p:nvSpPr>
        <p:spPr>
          <a:xfrm>
            <a:off x="3308400" y="819720"/>
            <a:ext cx="19731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Shar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national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experiences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practices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prospectiv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views on 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77"/>
          <p:cNvSpPr/>
          <p:nvPr/>
        </p:nvSpPr>
        <p:spPr>
          <a:xfrm>
            <a:off x="7257960" y="991080"/>
            <a:ext cx="1279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Development of common practices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78"/>
          <p:cNvSpPr/>
          <p:nvPr/>
        </p:nvSpPr>
        <p:spPr>
          <a:xfrm rot="5400000">
            <a:off x="5341320" y="892080"/>
            <a:ext cx="1238400" cy="1082520"/>
          </a:xfrm>
          <a:prstGeom prst="rect">
            <a:avLst/>
          </a:prstGeom>
          <a:solidFill>
            <a:srgbClr val="dce6f2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79"/>
          <p:cNvSpPr/>
          <p:nvPr/>
        </p:nvSpPr>
        <p:spPr>
          <a:xfrm>
            <a:off x="5232240" y="1027080"/>
            <a:ext cx="1436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Co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&amp;  Shar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i="1" lang="en-GB" sz="1300" spc="-1" strike="noStrike">
                <a:solidFill>
                  <a:srgbClr val="558ed5"/>
                </a:solidFill>
                <a:latin typeface="Calibri"/>
              </a:rPr>
              <a:t>resources on 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80"/>
          <p:cNvSpPr/>
          <p:nvPr/>
        </p:nvSpPr>
        <p:spPr>
          <a:xfrm rot="5400000">
            <a:off x="2282760" y="3235320"/>
            <a:ext cx="581040" cy="1114560"/>
          </a:xfrm>
          <a:prstGeom prst="rect">
            <a:avLst/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oneTexte 81"/>
          <p:cNvSpPr/>
          <p:nvPr/>
        </p:nvSpPr>
        <p:spPr>
          <a:xfrm>
            <a:off x="1982880" y="3434040"/>
            <a:ext cx="1116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800000"/>
                </a:solidFill>
                <a:latin typeface="Calibri"/>
              </a:rPr>
              <a:t>Review practices &amp; servi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oneTexte 1"/>
          <p:cNvSpPr/>
          <p:nvPr/>
        </p:nvSpPr>
        <p:spPr>
          <a:xfrm>
            <a:off x="1982880" y="162720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SITEX fun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oneTexte 17"/>
          <p:cNvSpPr/>
          <p:nvPr/>
        </p:nvSpPr>
        <p:spPr>
          <a:xfrm>
            <a:off x="3708360" y="162000"/>
            <a:ext cx="48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Opportunities of interactions offered by SIT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87"/>
          <p:cNvSpPr/>
          <p:nvPr/>
        </p:nvSpPr>
        <p:spPr>
          <a:xfrm rot="5400000">
            <a:off x="2318400" y="3991680"/>
            <a:ext cx="515880" cy="1139760"/>
          </a:xfrm>
          <a:prstGeom prst="rect">
            <a:avLst/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oneTexte 92"/>
          <p:cNvSpPr/>
          <p:nvPr/>
        </p:nvSpPr>
        <p:spPr>
          <a:xfrm>
            <a:off x="1876320" y="4290480"/>
            <a:ext cx="143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1300" spc="-1" strike="noStrike">
                <a:solidFill>
                  <a:srgbClr val="953735"/>
                </a:solidFill>
                <a:latin typeface="Calibri"/>
              </a:rPr>
              <a:t>R&amp;D              implement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93"/>
          <p:cNvSpPr/>
          <p:nvPr/>
        </p:nvSpPr>
        <p:spPr>
          <a:xfrm rot="5400000">
            <a:off x="2181240" y="2355840"/>
            <a:ext cx="814320" cy="1116000"/>
          </a:xfrm>
          <a:prstGeom prst="rect">
            <a:avLst/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oneTexte 94"/>
          <p:cNvSpPr/>
          <p:nvPr/>
        </p:nvSpPr>
        <p:spPr>
          <a:xfrm>
            <a:off x="1947960" y="252540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i="1" lang="en-GB" sz="1300" spc="-1" strike="noStrike">
                <a:solidFill>
                  <a:srgbClr val="800000"/>
                </a:solidFill>
                <a:latin typeface="Calibri"/>
              </a:rPr>
              <a:t>Training, competence developmen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oneTexte 18"/>
          <p:cNvSpPr/>
          <p:nvPr/>
        </p:nvSpPr>
        <p:spPr>
          <a:xfrm>
            <a:off x="3917880" y="3985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oneTexte 98"/>
          <p:cNvSpPr/>
          <p:nvPr/>
        </p:nvSpPr>
        <p:spPr>
          <a:xfrm>
            <a:off x="5708520" y="411120"/>
            <a:ext cx="4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oneTexte 100"/>
          <p:cNvSpPr/>
          <p:nvPr/>
        </p:nvSpPr>
        <p:spPr>
          <a:xfrm>
            <a:off x="7728120" y="39204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101"/>
          <p:cNvSpPr/>
          <p:nvPr/>
        </p:nvSpPr>
        <p:spPr>
          <a:xfrm>
            <a:off x="322200" y="2433600"/>
            <a:ext cx="1204920" cy="1400040"/>
          </a:xfrm>
          <a:prstGeom prst="rect">
            <a:avLst/>
          </a:prstGeom>
          <a:solidFill>
            <a:srgbClr val="7f7f7f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oneTexte 102"/>
          <p:cNvSpPr/>
          <p:nvPr/>
        </p:nvSpPr>
        <p:spPr>
          <a:xfrm>
            <a:off x="306360" y="2592360"/>
            <a:ext cx="120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SITEX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sustainab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experti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03"/>
          <p:cNvSpPr/>
          <p:nvPr/>
        </p:nvSpPr>
        <p:spPr>
          <a:xfrm rot="5400000">
            <a:off x="349560" y="795960"/>
            <a:ext cx="1133280" cy="122076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oneTexte 104"/>
          <p:cNvSpPr/>
          <p:nvPr/>
        </p:nvSpPr>
        <p:spPr>
          <a:xfrm>
            <a:off x="152280" y="830520"/>
            <a:ext cx="152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Joint Programming European Instru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3" name="Connecteur droit avec flèche 105"/>
          <p:cNvCxnSpPr/>
          <p:nvPr/>
        </p:nvCxnSpPr>
        <p:spPr>
          <a:xfrm flipV="1">
            <a:off x="928440" y="2006280"/>
            <a:ext cx="1080" cy="427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94" name="Parenthèse ouvrante 25"/>
          <p:cNvSpPr/>
          <p:nvPr/>
        </p:nvSpPr>
        <p:spPr>
          <a:xfrm>
            <a:off x="1782720" y="531720"/>
            <a:ext cx="247680" cy="5335560"/>
          </a:xfrm>
          <a:custGeom>
            <a:avLst/>
            <a:gdLst>
              <a:gd name="textAreaLeft" fmla="*/ 72720 w 247680"/>
              <a:gd name="textAreaRight" fmla="*/ 248040 w 247680"/>
              <a:gd name="textAreaTop" fmla="*/ 10080 h 5335560"/>
              <a:gd name="textAreaBottom" fmla="*/ 5325480 h 533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"/>
                  <a:pt x="0" y="84"/>
                </a:cubicBezTo>
                <a:lnTo>
                  <a:pt x="0" y="21516"/>
                </a:lnTo>
                <a:cubicBezTo>
                  <a:pt x="0" y="21558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Connecteur droit 106"/>
          <p:cNvSpPr/>
          <p:nvPr/>
        </p:nvSpPr>
        <p:spPr>
          <a:xfrm>
            <a:off x="1511280" y="3130560"/>
            <a:ext cx="262080" cy="12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6" name="Connecteur droit avec flèche 52"/>
          <p:cNvCxnSpPr/>
          <p:nvPr/>
        </p:nvCxnSpPr>
        <p:spPr>
          <a:xfrm>
            <a:off x="3803400" y="2093760"/>
            <a:ext cx="1080" cy="659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97" name="Connecteur droit avec flèche 115"/>
          <p:cNvCxnSpPr/>
          <p:nvPr/>
        </p:nvCxnSpPr>
        <p:spPr>
          <a:xfrm>
            <a:off x="7494120" y="2052720"/>
            <a:ext cx="1080" cy="660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98" name="Connecteur droit avec flèche 119"/>
          <p:cNvCxnSpPr/>
          <p:nvPr/>
        </p:nvCxnSpPr>
        <p:spPr>
          <a:xfrm>
            <a:off x="5606640" y="2090880"/>
            <a:ext cx="1080" cy="660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99" name="Connecteur droit avec flèche 121"/>
          <p:cNvCxnSpPr/>
          <p:nvPr/>
        </p:nvCxnSpPr>
        <p:spPr>
          <a:xfrm>
            <a:off x="4222440" y="2077560"/>
            <a:ext cx="1080" cy="145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00" name="Connecteur droit avec flèche 124"/>
          <p:cNvCxnSpPr/>
          <p:nvPr/>
        </p:nvCxnSpPr>
        <p:spPr>
          <a:xfrm>
            <a:off x="7876800" y="2093400"/>
            <a:ext cx="1080" cy="145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01" name="Connecteur droit avec flèche 126"/>
          <p:cNvCxnSpPr/>
          <p:nvPr/>
        </p:nvCxnSpPr>
        <p:spPr>
          <a:xfrm>
            <a:off x="5866920" y="2052360"/>
            <a:ext cx="1080" cy="145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02" name="Connecteur droit avec flèche 128"/>
          <p:cNvCxnSpPr/>
          <p:nvPr/>
        </p:nvCxnSpPr>
        <p:spPr>
          <a:xfrm>
            <a:off x="4374720" y="2093400"/>
            <a:ext cx="1080" cy="2243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03" name="Connecteur droit avec flèche 129"/>
          <p:cNvCxnSpPr/>
          <p:nvPr/>
        </p:nvCxnSpPr>
        <p:spPr>
          <a:xfrm>
            <a:off x="4673160" y="2093400"/>
            <a:ext cx="1080" cy="297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04" name="Connecteur droit avec flèche 132"/>
          <p:cNvCxnSpPr/>
          <p:nvPr/>
        </p:nvCxnSpPr>
        <p:spPr>
          <a:xfrm>
            <a:off x="6132240" y="2058840"/>
            <a:ext cx="1080" cy="224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05" name="Connecteur droit avec flèche 133"/>
          <p:cNvCxnSpPr/>
          <p:nvPr/>
        </p:nvCxnSpPr>
        <p:spPr>
          <a:xfrm>
            <a:off x="8032320" y="2090520"/>
            <a:ext cx="1080" cy="2245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06" name="Connecteur droit avec flèche 134"/>
          <p:cNvCxnSpPr/>
          <p:nvPr/>
        </p:nvCxnSpPr>
        <p:spPr>
          <a:xfrm>
            <a:off x="8254800" y="2042640"/>
            <a:ext cx="1080" cy="3047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07" name="Connecteur droit avec flèche 135"/>
          <p:cNvCxnSpPr/>
          <p:nvPr/>
        </p:nvCxnSpPr>
        <p:spPr>
          <a:xfrm>
            <a:off x="6349680" y="2093400"/>
            <a:ext cx="1080" cy="297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08" name="Rectangle 136"/>
          <p:cNvSpPr/>
          <p:nvPr/>
        </p:nvSpPr>
        <p:spPr>
          <a:xfrm rot="5400000">
            <a:off x="6965640" y="3114720"/>
            <a:ext cx="461880" cy="138924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oneTexte 137"/>
          <p:cNvSpPr/>
          <p:nvPr/>
        </p:nvSpPr>
        <p:spPr>
          <a:xfrm>
            <a:off x="6280200" y="3544920"/>
            <a:ext cx="176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Technical guidance SCR, peer review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38"/>
          <p:cNvSpPr/>
          <p:nvPr/>
        </p:nvSpPr>
        <p:spPr>
          <a:xfrm rot="5400000">
            <a:off x="5143320" y="3233880"/>
            <a:ext cx="461880" cy="115092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ZoneTexte 139"/>
          <p:cNvSpPr/>
          <p:nvPr/>
        </p:nvSpPr>
        <p:spPr>
          <a:xfrm>
            <a:off x="4730760" y="3597120"/>
            <a:ext cx="136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National review concep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40"/>
          <p:cNvSpPr/>
          <p:nvPr/>
        </p:nvSpPr>
        <p:spPr>
          <a:xfrm rot="5400000">
            <a:off x="6872040" y="2381040"/>
            <a:ext cx="569880" cy="130968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ZoneTexte 141"/>
          <p:cNvSpPr/>
          <p:nvPr/>
        </p:nvSpPr>
        <p:spPr>
          <a:xfrm>
            <a:off x="6161040" y="2784600"/>
            <a:ext cx="201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Joint International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Training Programs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47"/>
          <p:cNvSpPr/>
          <p:nvPr/>
        </p:nvSpPr>
        <p:spPr>
          <a:xfrm rot="5400000">
            <a:off x="5186160" y="3938760"/>
            <a:ext cx="572760" cy="141732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48"/>
          <p:cNvSpPr/>
          <p:nvPr/>
        </p:nvSpPr>
        <p:spPr>
          <a:xfrm rot="5400000">
            <a:off x="5937840" y="4604400"/>
            <a:ext cx="460440" cy="149688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oneTexte 150"/>
          <p:cNvSpPr/>
          <p:nvPr/>
        </p:nvSpPr>
        <p:spPr>
          <a:xfrm>
            <a:off x="4430880" y="4383000"/>
            <a:ext cx="2117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installations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Model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53"/>
          <p:cNvSpPr/>
          <p:nvPr/>
        </p:nvSpPr>
        <p:spPr>
          <a:xfrm rot="5400000">
            <a:off x="3961440" y="4469400"/>
            <a:ext cx="460440" cy="176688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54"/>
          <p:cNvSpPr/>
          <p:nvPr/>
        </p:nvSpPr>
        <p:spPr>
          <a:xfrm rot="5400000">
            <a:off x="7731720" y="4491720"/>
            <a:ext cx="460440" cy="170352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55"/>
          <p:cNvSpPr/>
          <p:nvPr/>
        </p:nvSpPr>
        <p:spPr>
          <a:xfrm rot="5400000">
            <a:off x="7355520" y="4113720"/>
            <a:ext cx="460440" cy="106200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156"/>
          <p:cNvSpPr/>
          <p:nvPr/>
        </p:nvSpPr>
        <p:spPr>
          <a:xfrm rot="5400000">
            <a:off x="5014800" y="2536560"/>
            <a:ext cx="568440" cy="100008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57"/>
          <p:cNvSpPr/>
          <p:nvPr/>
        </p:nvSpPr>
        <p:spPr>
          <a:xfrm rot="5400000">
            <a:off x="3550680" y="3297240"/>
            <a:ext cx="504720" cy="106668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58"/>
          <p:cNvSpPr/>
          <p:nvPr/>
        </p:nvSpPr>
        <p:spPr>
          <a:xfrm rot="5400000">
            <a:off x="3792960" y="4083840"/>
            <a:ext cx="460440" cy="113796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59"/>
          <p:cNvSpPr/>
          <p:nvPr/>
        </p:nvSpPr>
        <p:spPr>
          <a:xfrm rot="5400000">
            <a:off x="3434400" y="2634120"/>
            <a:ext cx="531720" cy="841680"/>
          </a:xfrm>
          <a:prstGeom prst="rect">
            <a:avLst/>
          </a:prstGeom>
          <a:solidFill>
            <a:srgbClr val="9bbb5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161"/>
          <p:cNvSpPr/>
          <p:nvPr/>
        </p:nvSpPr>
        <p:spPr>
          <a:xfrm>
            <a:off x="3308400" y="4390920"/>
            <a:ext cx="145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R&amp;D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results &amp; need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162"/>
          <p:cNvSpPr/>
          <p:nvPr/>
        </p:nvSpPr>
        <p:spPr>
          <a:xfrm>
            <a:off x="3098880" y="3571920"/>
            <a:ext cx="1423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perts review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acti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59"/>
          <p:cNvSpPr/>
          <p:nvPr/>
        </p:nvSpPr>
        <p:spPr>
          <a:xfrm rot="5400000">
            <a:off x="333000" y="4043520"/>
            <a:ext cx="1131840" cy="12556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oneTexte 61"/>
          <p:cNvSpPr/>
          <p:nvPr/>
        </p:nvSpPr>
        <p:spPr>
          <a:xfrm>
            <a:off x="-98280" y="4122720"/>
            <a:ext cx="1898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artnershi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wi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th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ZoneTexte 62"/>
          <p:cNvSpPr/>
          <p:nvPr/>
        </p:nvSpPr>
        <p:spPr>
          <a:xfrm>
            <a:off x="4705200" y="2838600"/>
            <a:ext cx="1208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Tutor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ZoneTexte 63"/>
          <p:cNvSpPr/>
          <p:nvPr/>
        </p:nvSpPr>
        <p:spPr>
          <a:xfrm>
            <a:off x="3254400" y="2813040"/>
            <a:ext cx="89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Training program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64"/>
          <p:cNvSpPr/>
          <p:nvPr/>
        </p:nvSpPr>
        <p:spPr>
          <a:xfrm>
            <a:off x="7124760" y="4414680"/>
            <a:ext cx="92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R&amp;D Joint Program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65"/>
          <p:cNvSpPr/>
          <p:nvPr/>
        </p:nvSpPr>
        <p:spPr>
          <a:xfrm>
            <a:off x="3308400" y="5095800"/>
            <a:ext cx="17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case studies on interactions with C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66"/>
          <p:cNvSpPr/>
          <p:nvPr/>
        </p:nvSpPr>
        <p:spPr>
          <a:xfrm>
            <a:off x="5310360" y="5089680"/>
            <a:ext cx="1635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Joint initiatives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with C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ZoneTexte 68"/>
          <p:cNvSpPr/>
          <p:nvPr/>
        </p:nvSpPr>
        <p:spPr>
          <a:xfrm>
            <a:off x="7054920" y="5068800"/>
            <a:ext cx="176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Joint international actions with C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4" name="Connecteur droit avec flèche 70"/>
          <p:cNvCxnSpPr>
            <a:stCxn id="326" idx="1"/>
            <a:endCxn id="289" idx="2"/>
          </p:cNvCxnSpPr>
          <p:nvPr/>
        </p:nvCxnSpPr>
        <p:spPr>
          <a:xfrm flipV="1">
            <a:off x="899640" y="3832920"/>
            <a:ext cx="26280" cy="27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35" name="ZoneTexte 71"/>
          <p:cNvSpPr/>
          <p:nvPr/>
        </p:nvSpPr>
        <p:spPr>
          <a:xfrm>
            <a:off x="1679400" y="271296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72"/>
          <p:cNvSpPr/>
          <p:nvPr/>
        </p:nvSpPr>
        <p:spPr>
          <a:xfrm>
            <a:off x="1679400" y="36068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74"/>
          <p:cNvSpPr/>
          <p:nvPr/>
        </p:nvSpPr>
        <p:spPr>
          <a:xfrm>
            <a:off x="1679400" y="434196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82"/>
          <p:cNvSpPr/>
          <p:nvPr/>
        </p:nvSpPr>
        <p:spPr>
          <a:xfrm>
            <a:off x="1679400" y="505296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Espace réservé du contenu 4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6675480"/>
          </a:xfrm>
          <a:prstGeom prst="rect">
            <a:avLst/>
          </a:prstGeom>
          <a:ln w="0">
            <a:noFill/>
          </a:ln>
        </p:spPr>
      </p:pic>
      <p:sp>
        <p:nvSpPr>
          <p:cNvPr id="340" name="Connecteur droit 6"/>
          <p:cNvSpPr/>
          <p:nvPr/>
        </p:nvSpPr>
        <p:spPr>
          <a:xfrm>
            <a:off x="457200" y="244440"/>
            <a:ext cx="2036880" cy="73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Espace réservé du contenu 2" descr=""/>
          <p:cNvPicPr/>
          <p:nvPr/>
        </p:nvPicPr>
        <p:blipFill>
          <a:blip r:embed="rId1"/>
          <a:stretch/>
        </p:blipFill>
        <p:spPr>
          <a:xfrm>
            <a:off x="457200" y="1311120"/>
            <a:ext cx="8229600" cy="3962520"/>
          </a:xfrm>
          <a:prstGeom prst="rect">
            <a:avLst/>
          </a:prstGeom>
          <a:ln w="0">
            <a:noFill/>
          </a:ln>
        </p:spPr>
      </p:pic>
      <p:sp>
        <p:nvSpPr>
          <p:cNvPr id="342" name="Connecteur droit 5"/>
          <p:cNvSpPr/>
          <p:nvPr/>
        </p:nvSpPr>
        <p:spPr>
          <a:xfrm>
            <a:off x="457200" y="1338120"/>
            <a:ext cx="20368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Espace réservé du contenu 2" descr=""/>
          <p:cNvPicPr/>
          <p:nvPr/>
        </p:nvPicPr>
        <p:blipFill>
          <a:blip r:embed="rId1"/>
          <a:stretch/>
        </p:blipFill>
        <p:spPr>
          <a:xfrm>
            <a:off x="334800" y="152280"/>
            <a:ext cx="8236080" cy="6870960"/>
          </a:xfrm>
          <a:prstGeom prst="rect">
            <a:avLst/>
          </a:prstGeom>
          <a:ln w="0">
            <a:noFill/>
          </a:ln>
        </p:spPr>
      </p:pic>
      <p:sp>
        <p:nvSpPr>
          <p:cNvPr id="344" name="Connecteur droit 5"/>
          <p:cNvSpPr/>
          <p:nvPr/>
        </p:nvSpPr>
        <p:spPr>
          <a:xfrm>
            <a:off x="338040" y="179280"/>
            <a:ext cx="2038320" cy="73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er 1"/>
          <p:cNvGrpSpPr/>
          <p:nvPr/>
        </p:nvGrpSpPr>
        <p:grpSpPr>
          <a:xfrm>
            <a:off x="468360" y="1773360"/>
            <a:ext cx="8136000" cy="3860640"/>
            <a:chOff x="468360" y="1773360"/>
            <a:chExt cx="8136000" cy="3860640"/>
          </a:xfrm>
        </p:grpSpPr>
        <p:grpSp>
          <p:nvGrpSpPr>
            <p:cNvPr id="346" name="Grouper 127"/>
            <p:cNvGrpSpPr/>
            <p:nvPr/>
          </p:nvGrpSpPr>
          <p:grpSpPr>
            <a:xfrm>
              <a:off x="468360" y="1773360"/>
              <a:ext cx="8136000" cy="3860640"/>
              <a:chOff x="468360" y="1773360"/>
              <a:chExt cx="8136000" cy="3860640"/>
            </a:xfrm>
          </p:grpSpPr>
          <p:sp>
            <p:nvSpPr>
              <p:cNvPr id="347" name="Rectangle 39"/>
              <p:cNvSpPr/>
              <p:nvPr/>
            </p:nvSpPr>
            <p:spPr>
              <a:xfrm rot="5400000">
                <a:off x="1012680" y="2955600"/>
                <a:ext cx="820440" cy="1334880"/>
              </a:xfrm>
              <a:prstGeom prst="rect">
                <a:avLst/>
              </a:prstGeom>
              <a:solidFill>
                <a:srgbClr val="cc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ZoneTexte 40"/>
              <p:cNvSpPr/>
              <p:nvPr/>
            </p:nvSpPr>
            <p:spPr>
              <a:xfrm>
                <a:off x="540360" y="3429360"/>
                <a:ext cx="161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libri"/>
                  </a:rPr>
                  <a:t>JRC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Rectangle 41"/>
              <p:cNvSpPr/>
              <p:nvPr/>
            </p:nvSpPr>
            <p:spPr>
              <a:xfrm rot="5400000">
                <a:off x="2007000" y="3791520"/>
                <a:ext cx="796680" cy="2636640"/>
              </a:xfrm>
              <a:prstGeom prst="rect">
                <a:avLst/>
              </a:prstGeom>
              <a:solidFill>
                <a:srgbClr val="cc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ZoneTexte 42"/>
              <p:cNvSpPr/>
              <p:nvPr/>
            </p:nvSpPr>
            <p:spPr>
              <a:xfrm>
                <a:off x="1104840" y="4860360"/>
                <a:ext cx="277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libri"/>
                  </a:rPr>
                  <a:t>Academics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Rectangle 43"/>
              <p:cNvSpPr/>
              <p:nvPr/>
            </p:nvSpPr>
            <p:spPr>
              <a:xfrm rot="5400000">
                <a:off x="4574520" y="1298880"/>
                <a:ext cx="1457280" cy="4618080"/>
              </a:xfrm>
              <a:prstGeom prst="rect">
                <a:avLst/>
              </a:prstGeom>
              <a:solidFill>
                <a:srgbClr val="3366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ZoneTexte 44"/>
              <p:cNvSpPr/>
              <p:nvPr/>
            </p:nvSpPr>
            <p:spPr>
              <a:xfrm>
                <a:off x="2988360" y="2853360"/>
                <a:ext cx="46166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ffffff"/>
                    </a:solidFill>
                    <a:latin typeface="Calibri"/>
                  </a:rPr>
                  <a:t>Joint Programming European Instrument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ffffff"/>
                    </a:solidFill>
                    <a:latin typeface="Calibri"/>
                  </a:rPr>
                  <a:t>RWM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ffffff"/>
                    </a:solidFill>
                    <a:latin typeface="Calibri"/>
                  </a:rPr>
                  <a:t>Multi Stakeholders governance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353" name="Connecteur droit avec flèche 63"/>
              <p:cNvCxnSpPr>
                <a:stCxn id="351" idx="2"/>
                <a:endCxn id="347" idx="0"/>
              </p:cNvCxnSpPr>
              <p:nvPr/>
            </p:nvCxnSpPr>
            <p:spPr>
              <a:xfrm flipH="1">
                <a:off x="2089800" y="3608280"/>
                <a:ext cx="903960" cy="16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354" name="Connecteur droit avec flèche 66"/>
              <p:cNvCxnSpPr/>
              <p:nvPr/>
            </p:nvCxnSpPr>
            <p:spPr>
              <a:xfrm flipH="1">
                <a:off x="3741480" y="4340160"/>
                <a:ext cx="667440" cy="5814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55" name="Rectangle 82"/>
              <p:cNvSpPr/>
              <p:nvPr/>
            </p:nvSpPr>
            <p:spPr>
              <a:xfrm rot="5400000">
                <a:off x="6789960" y="4195440"/>
                <a:ext cx="796680" cy="1882800"/>
              </a:xfrm>
              <a:prstGeom prst="rect">
                <a:avLst/>
              </a:prstGeom>
              <a:solidFill>
                <a:srgbClr val="cc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ZoneTexte 83"/>
              <p:cNvSpPr/>
              <p:nvPr/>
            </p:nvSpPr>
            <p:spPr>
              <a:xfrm>
                <a:off x="6071040" y="4739400"/>
                <a:ext cx="2280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libri"/>
                  </a:rPr>
                  <a:t>IGD-TP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libri"/>
                  </a:rPr>
                  <a:t>WMOs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357" name="Connecteur droit avec flèche 84"/>
              <p:cNvCxnSpPr/>
              <p:nvPr/>
            </p:nvCxnSpPr>
            <p:spPr>
              <a:xfrm>
                <a:off x="5389200" y="4314600"/>
                <a:ext cx="857880" cy="6865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58" name="Rectangle 68"/>
              <p:cNvSpPr/>
              <p:nvPr/>
            </p:nvSpPr>
            <p:spPr>
              <a:xfrm rot="5400000">
                <a:off x="6954840" y="1234440"/>
                <a:ext cx="796680" cy="2203560"/>
              </a:xfrm>
              <a:prstGeom prst="rect">
                <a:avLst/>
              </a:prstGeom>
              <a:solidFill>
                <a:srgbClr val="cc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359" name="Connecteur droit avec flèche 70"/>
              <p:cNvCxnSpPr/>
              <p:nvPr/>
            </p:nvCxnSpPr>
            <p:spPr>
              <a:xfrm flipH="1">
                <a:off x="5924160" y="2435040"/>
                <a:ext cx="317880" cy="4147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360" name="Rectangle 56"/>
              <p:cNvSpPr/>
              <p:nvPr/>
            </p:nvSpPr>
            <p:spPr>
              <a:xfrm rot="5400000">
                <a:off x="1317600" y="1306080"/>
                <a:ext cx="796680" cy="2060640"/>
              </a:xfrm>
              <a:prstGeom prst="rect">
                <a:avLst/>
              </a:prstGeom>
              <a:solidFill>
                <a:srgbClr val="cc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ZoneTexte 65"/>
              <p:cNvSpPr/>
              <p:nvPr/>
            </p:nvSpPr>
            <p:spPr>
              <a:xfrm>
                <a:off x="468360" y="2104560"/>
                <a:ext cx="257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libri"/>
                  </a:rPr>
                  <a:t>Civil Society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ZoneTexte 116"/>
              <p:cNvSpPr/>
              <p:nvPr/>
            </p:nvSpPr>
            <p:spPr>
              <a:xfrm>
                <a:off x="6033600" y="2104560"/>
                <a:ext cx="257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libri"/>
                  </a:rPr>
                  <a:t>Regulators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Rectangle 117"/>
              <p:cNvSpPr/>
              <p:nvPr/>
            </p:nvSpPr>
            <p:spPr>
              <a:xfrm rot="5400000">
                <a:off x="2602080" y="-360360"/>
                <a:ext cx="3860640" cy="812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364" name="Connecteur droit avec flèche 130"/>
            <p:cNvCxnSpPr/>
            <p:nvPr/>
          </p:nvCxnSpPr>
          <p:spPr>
            <a:xfrm flipH="1" flipV="1">
              <a:off x="2213640" y="2766600"/>
              <a:ext cx="780120" cy="321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European Research and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2"/>
          <p:cNvSpPr/>
          <p:nvPr/>
        </p:nvSpPr>
        <p:spPr>
          <a:xfrm rot="5400000">
            <a:off x="4184280" y="1511280"/>
            <a:ext cx="693720" cy="136044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oneTexte 23"/>
          <p:cNvSpPr/>
          <p:nvPr/>
        </p:nvSpPr>
        <p:spPr>
          <a:xfrm>
            <a:off x="3708360" y="1989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IT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8" name="Connecteur droit avec flèche 26"/>
          <p:cNvCxnSpPr/>
          <p:nvPr/>
        </p:nvCxnSpPr>
        <p:spPr>
          <a:xfrm flipV="1">
            <a:off x="4571640" y="2565000"/>
            <a:ext cx="108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3:31:26Z</dcterms:created>
  <dc:creator>SERRES Christophe</dc:creator>
  <dc:description/>
  <dc:language>en-US</dc:language>
  <cp:lastModifiedBy>Gilles Heriard Dubreuil</cp:lastModifiedBy>
  <cp:lastPrinted>2013-01-24T11:15:56Z</cp:lastPrinted>
  <dcterms:modified xsi:type="dcterms:W3CDTF">2013-09-17T14:57:55Z</dcterms:modified>
  <cp:revision>475</cp:revision>
  <dc:subject/>
  <dc:title>SITEX project presentation</dc:title>
</cp:coreProperties>
</file>