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3728-219B-4AC6-8D52-4B9A0CBE84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2098-038E-466F-9CC0-AC274E121E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345D-DA29-4401-A666-962901D37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203B-D076-4759-AD2C-D88D49AED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25EA-DE96-43F0-9BC7-D7755CED0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5850-C5B5-49F9-8705-A3986F16C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A2CAC-C57D-4733-973D-39643A5C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E5F08-F8F1-42A7-A026-6D243E0A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F2FDC-C893-4226-B38A-721D658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2AECA-A0FC-4320-8C9F-D895708A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AE4E8-AB17-4584-ADA2-A8BA24E3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0623E-3D02-49D3-B512-C840E8EC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E19A0-0B34-4FFE-9754-0FA0ACA3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4096-C5BA-4100-A494-BFEFBAE2C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95DE0-5E82-4487-9EAB-A4D641F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9A1D3-2C96-4822-904E-171086CF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49D21-8D49-4CAA-A4D1-8326E91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AB941-9423-45B9-9D04-1A409635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118CF-0880-4F9C-97F9-570A506B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E8406-0EAA-4E0C-A29C-A29EB7AE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2A1C5-A9DE-4359-85E5-552B09EB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8BC47-8E0D-4DD9-B46E-D3239AD1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92E72-2F3D-452E-9ADA-7D3ECE7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E8444-2247-42F1-985B-F3850CE8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B7C8-03A1-4B4B-BB73-303E2DC8D0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F9B71-1541-41E3-92C4-8590D4CA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45411-CC64-49D1-B792-9E072C5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5C759-178B-4F6F-AC11-D9422904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4DEF5-BBDC-4B98-9684-531AC26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66E4A-F1F1-4EA7-ADCF-51581721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2CECE-76B2-42C5-A526-9052CF5C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AA984-2FD2-48F8-A561-EE605EB8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A8A81-6755-4FA2-9461-CB190A31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DEF96-B2C2-4C1C-A786-B718B145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CACB6-1736-429E-8DA7-D0F6725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EEA1-9F1B-4D00-B382-AC2DC833D5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D6F88-0060-4E5A-BECE-E58F8882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CFD4E-4C4F-424E-8425-267AB08A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2B6F2-38F4-4E50-B03C-E941BF4C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9D8E7-A480-4C4D-8322-265AD29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009E7-2542-4509-B3CD-ED4A263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66635-7F12-4D70-9677-D681035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A680E-2BD4-43D8-81F5-601C9009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7B1D5-82F0-4392-9EA8-ED5C42FC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7F5E4-49F1-404F-A9B8-951F8EA5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9477C-710E-43F9-8B95-0E5D68BF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3511-92FD-47CF-8ECC-641D78610D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14055-7441-4D04-B05F-3AF606D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28502-BFCF-4A4F-A762-DEF22CAB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60724-7AF3-4604-A6AA-E48D813E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47C54-AFF7-4D68-A879-05B92F66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FB43E-EDC8-4438-9A11-9154246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4CD96-1AFC-43D5-8A20-99A9D93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FE1D7-63C4-4968-8F6B-D5843DE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5C142-BCB4-4016-8800-E7A20FB3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37770-5F42-4DC5-B8F4-2C511638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EE645-AACA-4264-8873-AFA9434E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B407-C5D9-478B-ADA1-9B13530F32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0C89D-3067-4562-AEE5-2F901FA5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3864-434C-42BC-AF9D-00996B14D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5574-7834-4582-8624-1E2842C87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48DD-8CF7-4FC1-83CC-707C19434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532-2C5C-44EC-90B7-C7ED6C239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8E0F-F973-4BD4-B788-4EDCC1443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DF55-6E40-40D3-B22B-F49A1F3BE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6754-3CFA-427F-870E-B46F6792F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3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4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6AF1-6019-4536-B5E0-14E3A3F7C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5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2D34-66EC-44BE-B945-9F1E556B8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9640" y="4581360"/>
            <a:ext cx="8209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SITEX European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Independent Technical Expertise Interacting with Civil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on Radioactive Waste Management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SENEC, 17/09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1809000" y="1555920"/>
            <a:ext cx="571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Decision making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Interactions with civil society</a:t>
            </a:r>
            <a:br>
              <a:rPr sz="3600"/>
            </a:b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Summary of discus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3286440" y="981000"/>
            <a:ext cx="27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Roundtable 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generational management of civil society interac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What if conflicts between generation pos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Need for flexibility to come back on previous deci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6612-53C7-4D01-9E9D-247735EED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Some key words to gain trust in the regulatory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Op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Resp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0000"/>
                </a:solidFill>
                <a:uFillTx/>
                <a:latin typeface="Calibri"/>
              </a:rPr>
              <a:t>Explanig how interactions with civil society are taking into account in the decisio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B9F1-B5F5-4E2D-896C-F7888E915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What in case of major chan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Implementer need to study the impact of the change on the conclusions of the safety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Regulatory body’s experts need to communicate on the outcomes of the udated safety cas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01D7-71DB-4D6A-B04E-7675125DD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How to distill the huge amount of interactions with civil society at all governance lev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1B59-B340-4077-AE2D-94E7C5930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Thanks to all particip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Footer Placeholder 3"/>
          <p:cNvSpPr/>
          <p:nvPr/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86AC-677C-4073-A6D6-8EAF1CA6D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stage to enter the decision making process?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BE4C-26DC-43D5-A285-64E6F2ADC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1"/>
          <a:stretch/>
        </p:blipFill>
        <p:spPr>
          <a:xfrm>
            <a:off x="325440" y="1557360"/>
            <a:ext cx="8494560" cy="4448160"/>
          </a:xfrm>
          <a:prstGeom prst="rect">
            <a:avLst/>
          </a:prstGeom>
          <a:ln w="0">
            <a:noFill/>
          </a:ln>
        </p:spPr>
      </p:pic>
      <p:sp>
        <p:nvSpPr>
          <p:cNvPr id="229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stage to enter the decision making process?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560" y="1700280"/>
            <a:ext cx="6985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Even earlier than conceptual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Energy Strategy S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New build E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PLEX EIA (prescribed under ESP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Decommiss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What have to do with the was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Legacy wa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Any stage the public w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D22F-1F57-4CD3-89A3-AF77EE5C1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level of governance ?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08000" y="1844280"/>
            <a:ext cx="3456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N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Europ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BDC3-2FF7-4357-ADED-13ED80B8E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level of governance ?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6920" y="1412640"/>
            <a:ext cx="9074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National</a:t>
            </a: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Europ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Legislation (Eurato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Public should be consulted as well as stakehol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Translation into national legislation (not a cut &amp; pas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Peer reviews waste plans (HER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What about WENRA, IAEA guidelin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12F3-0BFA-4B2E-93E8-41974A768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4211640" y="1484280"/>
            <a:ext cx="4392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Covered by AAR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000"/>
                </a:solidFill>
                <a:latin typeface="Calibri"/>
              </a:rPr>
              <a:t>BUT IMPLEMATION PROBLE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ight Brace 1"/>
          <p:cNvSpPr/>
          <p:nvPr/>
        </p:nvSpPr>
        <p:spPr>
          <a:xfrm>
            <a:off x="3419640" y="1484280"/>
            <a:ext cx="288720" cy="108108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1081080"/>
              <a:gd name="textAreaBottom" fmla="*/ 10738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1"/>
                  <a:pt x="10800" y="481"/>
                </a:cubicBezTo>
                <a:lnTo>
                  <a:pt x="10800" y="10319"/>
                </a:lnTo>
                <a:cubicBezTo>
                  <a:pt x="10800" y="10560"/>
                  <a:pt x="16200" y="10800"/>
                  <a:pt x="21600" y="10800"/>
                </a:cubicBezTo>
                <a:cubicBezTo>
                  <a:pt x="16200" y="10800"/>
                  <a:pt x="10800" y="11041"/>
                  <a:pt x="10800" y="11281"/>
                </a:cubicBezTo>
                <a:lnTo>
                  <a:pt x="10800" y="21119"/>
                </a:lnTo>
                <a:cubicBezTo>
                  <a:pt x="10800" y="2136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How and 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st suitable w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interact </a:t>
            </a: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2"/>
          <p:cNvSpPr/>
          <p:nvPr/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8D55-FD5B-442F-BF1F-4A289327B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40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D:\Users\fb\Pictures\roundtable_interactions.png"/>
          <p:cNvPicPr/>
          <p:nvPr/>
        </p:nvPicPr>
        <p:blipFill>
          <a:blip r:embed="rId1"/>
          <a:stretch/>
        </p:blipFill>
        <p:spPr>
          <a:xfrm>
            <a:off x="773280" y="1374840"/>
            <a:ext cx="76863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How and 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st suitable w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interact </a:t>
            </a: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920" y="1773360"/>
            <a:ext cx="886752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Need for communication and participation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Appropriate processes to inter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Enough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Open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No polarised discu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Peer reviews &amp; NTW could be good plat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94DE-F072-47A0-A368-4EFA1DE62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0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to ensure a mutual understanding?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25360"/>
            <a:ext cx="91440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Understanding and ex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on fundamental asp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Decis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Safety principles &amp;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position regulatory body’s exp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Outcomes regulatory body R&amp;D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Outcomes Safety Case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</a:rPr>
              <a:t>Safety strategy adopt by the implem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</a:rPr>
              <a:t>Safety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Access to documents (transparenc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ED4-403C-4075-A258-0DBD67385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to ensure a mutual understanding?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fr-BE" sz="3200" spc="-1" strike="noStrike" u="sng">
                <a:solidFill>
                  <a:srgbClr val="000000"/>
                </a:solidFill>
                <a:uFillTx/>
                <a:latin typeface="Calibri"/>
              </a:rPr>
              <a:t>no common understanging </a:t>
            </a: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fr-BE" sz="3200" spc="-1" strike="noStrike" u="sng">
                <a:solidFill>
                  <a:srgbClr val="000000"/>
                </a:solidFill>
                <a:uFillTx/>
                <a:latin typeface="Calibri"/>
              </a:rPr>
              <a:t>fundamental issues</a:t>
            </a: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, it is </a:t>
            </a:r>
            <a:r>
              <a:rPr b="1" lang="fr-BE" sz="3200" spc="-1" strike="noStrike" u="sng">
                <a:solidFill>
                  <a:srgbClr val="000000"/>
                </a:solidFill>
                <a:uFillTx/>
                <a:latin typeface="Calibri"/>
              </a:rPr>
              <a:t>not possible </a:t>
            </a: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to discuss more specific aspects like s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Nonsense to initiate discussions with civil society on decisions taken 10 yers 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E.g.: FR &amp; SW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Important to learn from previous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036-28C4-42C5-98A5-F1AA45638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3:31:26Z</dcterms:created>
  <dc:creator>SERRES Christophe</dc:creator>
  <dc:description/>
  <dc:language>en-US</dc:language>
  <cp:lastModifiedBy>BERNIER Frédéric</cp:lastModifiedBy>
  <cp:lastPrinted>2013-01-23T11:09:27Z</cp:lastPrinted>
  <dcterms:modified xsi:type="dcterms:W3CDTF">2013-09-17T12:16:35Z</dcterms:modified>
  <cp:revision>447</cp:revision>
  <dc:subject/>
  <dc:title>SITEX project presentation</dc:title>
</cp:coreProperties>
</file>