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5CA-6474-434F-A208-AF9306B172B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949-F4EF-4AFA-9655-197EAB3E29D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44D-DAFD-4012-A321-71581C02E13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4127-D694-4AB5-AFC7-0ED2438B1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19B9-1C4E-497C-81D7-7FACF3091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5F5E-F0FF-4EC1-81FA-9BE6AF323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BD47-AE23-4F26-9913-C9B818099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FCB98-DCBC-4CE3-AE7C-C74CBDF1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5C9B3-4565-41BD-A0F3-BB72008E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772F-5DA2-4F1F-A531-A94773DB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4532-E001-4771-9FEA-0130C463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4812A-02D8-4FD4-AB43-676CC5BD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69BF3-5296-40DA-A2FE-0E90865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A35D8-A283-48A9-8541-31BD727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97BA-C7AC-49E5-AD64-3D6D235D1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CEF2C-7658-4EFE-AFBD-043B861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C4C26-D74C-4606-A47A-D87E611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16C65-3CF2-4DC1-8CF2-4C3AEA7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3CD84-F102-4C9B-96F0-20C693E1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5E4F-CD12-496B-9B12-5CC526B0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E482F-2AED-4DC6-9CA8-E2830B60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BA592-4CDC-47CA-BF4E-F7E6AA8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D4443-57C8-40BD-9382-1CF44B5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9B670-33C6-462D-A011-09DAE31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ABA0D-8A0E-4812-8CAC-FC96DC39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BFE6-F7EB-418A-8C6B-3C5040AD64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733F6-89C7-4838-BB14-EB946F7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631F5-415B-4EDE-A8D9-531D69F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ED725-39A2-4BDA-8888-5B196C6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C4677-58A3-4767-9992-5B6D09B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0C334-0455-4E2D-9F7C-377D59F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73B0F-3A5B-4C45-A8C4-29C96E8A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FAECC-DA76-4052-8217-00A67F7E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A55AA-E9E7-475A-8D7A-9C5C68FC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0333C-CA30-4156-B506-CF67699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96CA0-F3DC-4EAC-B3AB-0B649415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2FAC-21AC-4274-8031-626D1C948E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E91E1-3920-46AA-A7CC-5E0B049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EEAE4-9736-4407-AB3C-C2E295C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9C948-F76A-4DC5-AE10-2D2B4A2E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0E2F4-27C5-470E-B61E-86725A6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4D0F5-8F76-4B95-8D4E-569C4CC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E2882-5B23-4BAD-9E03-6D3F0D9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45025-CBD3-462B-995C-895FFBEA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492ED-0F4F-43A7-8670-13ED83E0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15D4C-6379-41F4-8174-12D352F4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12618-E50B-4F4D-A747-2A185898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10C0-4AF9-4868-BDF5-F93119AC40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14414-52DC-4802-AC42-39E58324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BC4F4-F8FD-42BA-9FFC-8DCD83A4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EE112-32B7-460A-8C65-C616E14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CA557-59E3-49C7-BD8B-EC8D0D8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EAD5B-1C91-4CEB-AD86-F663370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13F64-BB3A-402D-B1EC-AB484BC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04B9A-FC19-4C9F-9490-11A0CEA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A87F0-AFC1-439C-B3A4-9D77B01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4784C-A8D7-490F-9606-69AB008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CDEE7-24B2-4A2B-B4D1-5F0B023D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3B10-69D0-4737-9194-8B83067F56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84C66-278C-481C-9D6C-A9086447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5D1E-D70E-40A6-B88E-5145AB3E7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CBA9-AD35-4EE0-B195-1E62BEBF1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77F3-E730-49A8-BB15-C35A2CB6E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D807-F4E2-463A-94A1-ABBE2E652496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CD4-418E-40FE-818A-04320A6C18D9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D2D-16B0-4B52-878F-31679F9ABEF5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855-5D8F-4E05-8FA2-96234D925B04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C1DC-73F3-4B77-BFC9-3FF8F47D4BF9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AED-7620-445F-BC7D-0BB1893D5D1E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11280" y="2421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4f81bd"/>
                </a:solidFill>
                <a:latin typeface="Calibri"/>
              </a:rPr>
              <a:t>ROUND TABLE IV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f81bd"/>
                </a:solidFill>
                <a:latin typeface="Calibri"/>
              </a:rPr>
              <a:t>SITEX WP</a:t>
            </a:r>
            <a:r>
              <a:rPr b="1" lang="cs-CZ" sz="4800" spc="-1" strike="noStrike">
                <a:solidFill>
                  <a:srgbClr val="4f81bd"/>
                </a:solidFill>
                <a:latin typeface="Calibri"/>
              </a:rPr>
              <a:t>3</a:t>
            </a:r>
            <a:r>
              <a:rPr b="1" lang="en-GB" sz="48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800"/>
            </a:br>
            <a:r>
              <a:rPr b="1" lang="en-GB" sz="4800" spc="-1" strike="noStrike">
                <a:solidFill>
                  <a:srgbClr val="4f81bd"/>
                </a:solidFill>
                <a:latin typeface="Calibri"/>
              </a:rPr>
              <a:t>Regulatory expect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f81bd"/>
                </a:solidFill>
                <a:latin typeface="Calibri"/>
              </a:rPr>
              <a:t>and nee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World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Calibri"/>
              </a:rPr>
              <a:t>SENEC, 1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nl-BE" sz="2800" spc="-1" strike="noStrike">
                <a:solidFill>
                  <a:srgbClr val="000000"/>
                </a:solidFill>
                <a:latin typeface="Calibri"/>
              </a:rPr>
              <a:t>/09/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EC FP7 SITEX Project – WP2 – Steering Committee 15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bdélník 5"/>
          <p:cNvSpPr/>
          <p:nvPr/>
        </p:nvSpPr>
        <p:spPr>
          <a:xfrm>
            <a:off x="250920" y="333360"/>
            <a:ext cx="82087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table IV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research agenda of the expertise function at national and European levels, discussing the expectations of the civil society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oncerning scientific and technical dialog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256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bdélník 5"/>
          <p:cNvSpPr/>
          <p:nvPr/>
        </p:nvSpPr>
        <p:spPr>
          <a:xfrm>
            <a:off x="324000" y="260280"/>
            <a:ext cx="820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table IV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250920" y="749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ivil society expect of experts in research area (the level of scientific knowledge vers. level of communicationg the knowledge)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blic vs private status of exper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build and keep confidence of SC to exper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es the SC consideres as “Independency”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TSO be completely independent on WMO (independency vers. isolation)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cover all scientific needs that arises from SA review to be independ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does CS consideres interaction and joint actions with Waste Management Organisation (WMOs) and other R&amp;D bod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aring knowledge, tools and install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bdélník 5"/>
          <p:cNvSpPr/>
          <p:nvPr/>
        </p:nvSpPr>
        <p:spPr>
          <a:xfrm>
            <a:off x="324000" y="260280"/>
            <a:ext cx="820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table IV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250920" y="106092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uropean governance of research (IGD-T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are the expectations for transfer of scientific knowledge and information towards civil socie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to keep precision and “updateness” of scientific information being sent towards 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WP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 focuses on </a:t>
            </a:r>
            <a:br>
              <a:rPr sz="2800"/>
            </a:b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upport for regulatory decision and Technical dialogue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2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76A-10DE-4A28-BBD8-8D1B5C08371B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08000" y="5661000"/>
            <a:ext cx="9036000" cy="119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9" descr="D:\Users\fb\Pictures\SITEXWP2.png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libri"/>
              </a:rPr>
              <a:t>WP 3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evelopment of TS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`s scientific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WP is related to the development and maintenance of updated and independent scientific capabilities of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bjectives of the WP3 ar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t the conditions for building a framework that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ill allow structuring TSO’s R&amp;D activities with respect to priorit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ialogue with WMOs and the means in terms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technical tools, manpower and fun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with EC framework programme to develop and maintain TSO’s scientific skills that structure th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tise function will be raised, as well as the question of independency of the scientific capabilities of TSOs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sidering in the mean time the necessary collaborations with operators in the field of research activities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are necessary for mutualising means and sharing basic knowled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P3 Tasks  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D orientations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the TSO`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sk1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&amp;D  orientations for the TSO´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definition of the R&amp;D actions that should be performed by the TSOs in order to support their technical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expertise fun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se actions will be identified on the basis of the scientific and technical questions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nd will b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ioritized with respect to the key safety question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sing from interactions with IGD-T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sk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vailability and needs for technical and scientific tools for TSOs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identification of the tools (experimental installations, modelling capacities…) that are already available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 carry out this programme or that should be further developed in order to improve the TSOs capabilities i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performing their R&amp;D programme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sk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ategy for implementing TS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`s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amp;D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grammes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identification of the necessary resources (manpower, funding…)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d strategy for implementing such progra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is of crucial importance to identify the areas where it would be wor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haring the R&amp;D activ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xperiments as example) with the actions performe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the operators. Besides optimizing resources, scientific cooperation, under conditions that makes possibl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eservation of TSOs independence when reviewing the Safety Case, is a valuable way to gain mutu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key processes and remaining uncertainties. It reinforces the technical dialogue betwee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and the assessors (TSOs and N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1557360"/>
          <a:ext cx="7283520" cy="370836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 short name (countr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N (Fra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C (Belg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S (German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JV (Czech Rep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 V (Belg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I (Lithuan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OM (Slovak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/NRG (Netherlan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SC-CCSN (Can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3.1 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amp;D orientations for the TSO`s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: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268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hort description of concept and the state of DGR programme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development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f the participant`s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dentification of common views on key safety issues (safety functions vs. components) and associated R&amp;D actions conducted by T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ality of input data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standing of Complex process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ssessment of extent, intensity and impact of proces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mmary of the proposed R&amp;D action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Actions identified to be conducted to ensure key safety issues + their priorit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mparison of key issues for R&amp;D actions, evaluated within the SITEX partners with key topics identified in S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ppendix 1: advancement state of national project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ppendix 2: National safety issues and R&amp;D action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D3.2  Availability and needs 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for technical and scientific tools for TSOs - Structur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50920" y="1856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al installation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ng capaciti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tion of capabitility to cover R&amp;D actions, identified in the D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of inpu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2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Complex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tion of extent, intensity and impact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D3.2  Availability and needs 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for technical and scientific tools for TSOs - Structur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250920" y="1856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al installation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ng capaciti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tion of capabitility to cover R&amp;D actions, identified in the D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of inpu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2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Complex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r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tion of extent, intensity and impact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sk 3 Strategy for implementing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S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`s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D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obsah 2"/>
          <p:cNvSpPr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par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tion of strategy for improving, developing and maintaning T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`s needed capacities and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ies including identification of the necessar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y resources (manpower, funding,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Identification of scientific or technical areas where it would be worth sharing the 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D activities with the actions performed b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y operators through joint research programmes.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o identify ways for effective communication on the 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D results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f TSOs with WMOs and other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3:31:26Z</dcterms:created>
  <dc:creator>SERRES Christophe</dc:creator>
  <dc:description/>
  <dc:language>en-US</dc:language>
  <cp:lastModifiedBy>Vaclava Havlova</cp:lastModifiedBy>
  <cp:lastPrinted>2013-01-23T11:09:27Z</cp:lastPrinted>
  <dcterms:modified xsi:type="dcterms:W3CDTF">2013-09-17T06:28:01Z</dcterms:modified>
  <cp:revision>427</cp:revision>
  <dc:subject/>
  <dc:title>SITEX project presentation</dc:title>
</cp:coreProperties>
</file>