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957-F7D3-4E10-A5F9-3E0DBF69A9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F1E-B295-4E44-91D9-0841D94D16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xisting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“high-level” safety issues/requirement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developed in the EC directive, WENRA SRLs, ICRP recommendations and updated IAEA Safety Requirements will be first identified and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used as a basi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for the identification of areas for which guidance is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 priori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need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Existing regulatory guide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ill be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 compared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and discussed in order to identify and understand common points and differ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Needs for further development, harmonization and dialogu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between stakeholders will be identifi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Close interaction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between TSOs and NSA as well as with other stakeholders (WMOs in particular – interactions with the IGD-TP is foreseen) is required to identify the needs for technical guid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Prioritie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will be established taking into account the IGD-TP vision statement that “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by 2025, the first geological disposal facilities for spent fuel, high-level waste, and other long-lived radioactive waste will be operating safely in Europ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” (IGD-TP, 2010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D81-05A8-4619-8DBA-EDBBCE26E1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ationale Behind the Identification of Needed Support &amp; Experti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What are the possible outcomes of a particular type of technical support (R&amp;D, controls, audits, review,…)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What kind of technical support(s) is needed to verify compliance with a particular safety requirement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What’s the most suitable technical support fo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a particular technical issu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a particular decision/programme stag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7CE1-1E8A-4811-B4BC-81F30E45A03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nswers received so f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Calibri"/>
              </a:rPr>
              <a:t>10 organizations (TSOs/Regulators) : </a:t>
            </a: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el V, CNSC, ENSI, FANC, GRS, IRSN, NRG, NRI, SSM, DE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Calibri"/>
              </a:rPr>
              <a:t>9 countries: </a:t>
            </a: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E, CA, CH, CZ, DE, FR, NL, SE, 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D31B-3B11-4A5C-8486-A4A8B226574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1FF1-EB40-417C-9A48-993B8790023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8160-27CA-4031-877C-F6C8289B11E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0544-5980-4D1C-85B5-6121F1D7B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CC64-D801-4510-9C5C-EE30FBE2B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1B16-BB70-4770-85AC-4D8D41F8B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3EC3-7598-40E0-B400-A43DB0724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64123-1FF0-40D3-994A-A7510F7F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66D26-4BF0-4230-9F1A-0545215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D95D9-5208-4774-9FEF-2A10BFBC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E40F2-7E30-4233-86AB-4B010A2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23981-C73A-4849-A735-8C5F9BE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80CA-4CDD-4913-AD2F-0E06A2A8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BEAD0-1EA7-46E9-B30B-33EF990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0715-A918-4C02-90BA-D7CDD71B6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67E3-B75F-4AAA-8F54-44319C0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E8ACB-479A-4996-B8A9-81F0813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7D4D0-CB0F-40C5-B78E-5D45A34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27588-86B8-4BD5-AC0A-1C040AB5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D98E2-B630-4693-94FD-8D175BBE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33B6E-55E6-4D4F-A3C8-D844319C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255E9-43D5-437D-AAC3-859EFCD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52CB6-AF52-4396-B062-E86A84B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CB25C-A4EF-42A6-9255-B6BFE757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6477D-A0AC-4FEC-BAC3-76028D5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8F71-8DA2-4F86-8AE6-F8BCE22A58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C4F59-ABB4-4A7B-A5ED-0B62E3B6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D2C94-E14D-4E39-8EFF-5D52296C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C1B57-8CCE-4850-B423-17474B8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89F8A-50C9-4C2C-BBEF-B2FBA419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A9440-D605-4D51-B007-B4AD397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86488-9C76-4AC9-AC7E-066BD02D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EC844-3459-4E53-8FFA-D8FBF8E0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34698-BB18-4CAF-AC54-884619A2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9E8CB-E33D-4FBB-BBED-471208A5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4CA8F-3C42-4021-B8F2-B3F05F9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54C3-8A8C-4070-ACE4-0085072243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11B96-0CA8-4EAC-A14C-C9985381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78A7C-92B5-42AF-B362-5A668596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C23A7-3FEC-4077-B347-D77A615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659DD-CAEA-497E-A45E-76A91E6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F3618-2A77-4CF6-BAF9-A62A96CC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8421A-BFB5-4C25-8049-C3F14EB2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EBE4E-D519-47F1-8EF6-941D14D9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9C9A8-0730-4FF5-A0B7-31009E7C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C9F3F-2E9B-4BA2-B78D-26941B91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B3430-69FF-4EF2-A696-740ED58A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F1CE-2FD7-4909-A788-1A3B8F4615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73C8E-54DF-400D-82C3-F2F48460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95182-38D0-4E59-BF82-D622EA52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5BF65-6600-41CD-B210-C363719D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03EED-FA39-4C8E-B9E6-603FD16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736EE-08F4-416A-833E-884CA53D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513FB-F9F8-45AB-803B-B01EB30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B1FE0-5D8A-4805-9838-FC10A91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E17AF-DC16-41F5-B687-8104C96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CCE5E-1316-4E1D-AA78-4CDB4059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70AD0-C82D-43D2-BA72-27AF1CC5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35E4-4451-4D80-BC31-F9A63A25C5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CB2A5-8638-4999-9B77-081F6EFC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BD2D-10F4-4BE8-9CF8-5F2F88096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9BF9-5042-42F0-B3CC-07B91FBCC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F581-E3E0-4416-AF65-25BE057C1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D18F-D155-4DA9-A03C-52DD46645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8CA-36EE-4A23-BB53-99B04F2B1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671-893A-4C5A-9A75-CAA78690E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4A0-3475-4584-BE44-7EC20148B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fp7"/>
          <p:cNvPicPr/>
          <p:nvPr/>
        </p:nvPicPr>
        <p:blipFill>
          <a:blip r:embed="rId2"/>
          <a:stretch/>
        </p:blipFill>
        <p:spPr>
          <a:xfrm>
            <a:off x="8134200" y="6035760"/>
            <a:ext cx="1008360" cy="82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rcRect l="6840" t="0" r="13681" b="11839"/>
          <a:stretch/>
        </p:blipFill>
        <p:spPr>
          <a:xfrm>
            <a:off x="0" y="6035760"/>
            <a:ext cx="2514600" cy="799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9BE9-167B-45B7-8F37-EB4C3E303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FF57-C115-478A-AE52-0551130C6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9640" y="4581360"/>
            <a:ext cx="820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SITEX European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Independent Technical Expertise Interacting with Civil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on Radioactive Waste Management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SENEC, 17/09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682200" y="642960"/>
            <a:ext cx="796680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P2: Regulatory expectations and n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1505880" y="2516040"/>
            <a:ext cx="6284520" cy="11912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Decision mak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Interactions with civil soci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3286440" y="1941480"/>
            <a:ext cx="27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Roundtable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own Arrow 10"/>
          <p:cNvSpPr/>
          <p:nvPr/>
        </p:nvSpPr>
        <p:spPr>
          <a:xfrm>
            <a:off x="4475160" y="1434960"/>
            <a:ext cx="380880" cy="50508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Roundtable 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D99F-D11F-4510-A1C3-5C0149AC9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5" descr="D:\Users\fb\Pictures\roundtable.jpg"/>
          <p:cNvPicPr/>
          <p:nvPr/>
        </p:nvPicPr>
        <p:blipFill>
          <a:blip r:embed="rId1"/>
          <a:stretch/>
        </p:blipFill>
        <p:spPr>
          <a:xfrm>
            <a:off x="1547640" y="1125360"/>
            <a:ext cx="5904000" cy="504216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stage to enter the decision making pro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265-C4C4-46E7-A749-E5F9F6657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325440" y="1557360"/>
            <a:ext cx="8494560" cy="4448160"/>
          </a:xfrm>
          <a:prstGeom prst="rect">
            <a:avLst/>
          </a:prstGeom>
          <a:ln w="0">
            <a:noFill/>
          </a:ln>
        </p:spPr>
      </p:pic>
      <p:sp>
        <p:nvSpPr>
          <p:cNvPr id="310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level of governanc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08000" y="1844280"/>
            <a:ext cx="3456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Europ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33B0-4505-4B20-8DCE-3F7CCC308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How to intera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oter Placeholder 2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CCA-B29C-4D13-A544-E37E15C9B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0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7" descr="D:\Users\fb\Pictures\roundtable_interactions.png"/>
          <p:cNvPicPr/>
          <p:nvPr/>
        </p:nvPicPr>
        <p:blipFill>
          <a:blip r:embed="rId1"/>
          <a:stretch/>
        </p:blipFill>
        <p:spPr>
          <a:xfrm>
            <a:off x="341280" y="836640"/>
            <a:ext cx="84614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to ensure a mutual understan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cessary cond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uments/dialogue to facilitate the interpretation and understanding of safety requirements would be helpfu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topics would need to be treated in prior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262-CAFE-4624-975F-D119CF65E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st suitable ways of identifying the needs of the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What are the needs for harmonization from stakeholders point of 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5305-53EA-4C70-A393-548374061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8" descr="D:\Users\fb\Pictures\roundtable_needs.png"/>
          <p:cNvPicPr/>
          <p:nvPr/>
        </p:nvPicPr>
        <p:blipFill>
          <a:blip r:embed="rId1"/>
          <a:stretch/>
        </p:blipFill>
        <p:spPr>
          <a:xfrm>
            <a:off x="1763640" y="2708280"/>
            <a:ext cx="58975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WP2 focuses on </a:t>
            </a:r>
            <a:br>
              <a:rPr sz="4400"/>
            </a:b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« Regulatory Expectations &amp; Need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556000" y="6381720"/>
            <a:ext cx="446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SITEX WP2.1 - 2nd WP Meeting - Amsterdam - 29/01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EBC-CB59-4AAC-9756-5DFC6F5C6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08000" y="5661000"/>
            <a:ext cx="9036000" cy="119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9" descr="D:\Users\fb\Pictures\SITEXWP2.png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000000"/>
                </a:solidFill>
                <a:latin typeface="Calibri"/>
              </a:rPr>
              <a:t>WP2 has two main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66560" y="1484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reas where dialogue, development and harmonization of technical guidance is needed in prior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ertise and technical support needed by the regulatory function in order to perform an independent assessment of compliance with safety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6854-D142-40D1-9E70-0CB76F61E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3" descr="target"/>
          <p:cNvPicPr/>
          <p:nvPr/>
        </p:nvPicPr>
        <p:blipFill>
          <a:blip r:embed="rId1"/>
          <a:srcRect l="14894" t="-4265" r="17597" b="-4354"/>
          <a:stretch/>
        </p:blipFill>
        <p:spPr>
          <a:xfrm>
            <a:off x="38160" y="1692360"/>
            <a:ext cx="1332000" cy="1231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5565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target"/>
          <p:cNvPicPr/>
          <p:nvPr/>
        </p:nvPicPr>
        <p:blipFill>
          <a:blip r:embed="rId2"/>
          <a:srcRect l="14894" t="-4265" r="17597" b="-4354"/>
          <a:stretch/>
        </p:blipFill>
        <p:spPr>
          <a:xfrm>
            <a:off x="34920" y="3860640"/>
            <a:ext cx="1332000" cy="12337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"/>
          <p:cNvSpPr/>
          <p:nvPr/>
        </p:nvSpPr>
        <p:spPr>
          <a:xfrm>
            <a:off x="509760" y="4151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5654520" y="4365720"/>
            <a:ext cx="294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Identification of the areas where technical guidance and dialogue are needed in p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13080" y="4168800"/>
            <a:ext cx="4535640" cy="1598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95280" y="865080"/>
            <a:ext cx="302436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afety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(WENRA , IAEA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94240" y="838080"/>
            <a:ext cx="230976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Safety Issues</a:t>
            </a:r>
            <a:br>
              <a:rPr sz="2000"/>
            </a:br>
            <a:r>
              <a:rPr b="0" lang="en-GB" sz="20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Topic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480560" y="1806480"/>
            <a:ext cx="41371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Overview of existing regulatory gu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764240" y="3235320"/>
            <a:ext cx="357156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eeds for further development,</a:t>
            </a:r>
            <a:br>
              <a:rPr sz="2000"/>
            </a:br>
            <a:r>
              <a:rPr b="0" lang="en-GB" sz="20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 harmonization and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93200" y="1787400"/>
            <a:ext cx="28296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xisting regulatory gu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1132560" y="4857840"/>
            <a:ext cx="154944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GD-TP 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6550200" y="154620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6550200" y="220500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6550200" y="29257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6550200" y="39574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3403440" y="1225440"/>
            <a:ext cx="1990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3332160" y="1987560"/>
            <a:ext cx="94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2690640" y="5057640"/>
            <a:ext cx="152100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03280" y="2749680"/>
            <a:ext cx="280836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 priori </a:t>
            </a:r>
            <a:r>
              <a:rPr b="0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identification of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3324240" y="33130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22"/>
          <p:cNvSpPr/>
          <p:nvPr/>
        </p:nvSpPr>
        <p:spPr>
          <a:xfrm>
            <a:off x="3492360" y="3860640"/>
            <a:ext cx="127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59720" y="-1000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6045120" y="-9360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8EE-68DC-4B11-BB75-17F31901D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24000" y="3652920"/>
            <a:ext cx="316836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xchanges with IGD-TP &amp;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other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912560" y="2519280"/>
            <a:ext cx="32652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Calibri"/>
              </a:rPr>
              <a:t>Common points &amp; dif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3" descr="target"/>
          <p:cNvPicPr/>
          <p:nvPr/>
        </p:nvPicPr>
        <p:blipFill>
          <a:blip r:embed="rId1"/>
          <a:srcRect l="14894" t="-4265" r="17597" b="-4354"/>
          <a:stretch/>
        </p:blipFill>
        <p:spPr>
          <a:xfrm>
            <a:off x="4351320" y="4351320"/>
            <a:ext cx="1332000" cy="123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0"/>
          <p:cNvSpPr/>
          <p:nvPr/>
        </p:nvSpPr>
        <p:spPr>
          <a:xfrm>
            <a:off x="4869720" y="46418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771640" y="2719440"/>
            <a:ext cx="277344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reas of expertis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ociated with the safety of a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52440" y="2719440"/>
            <a:ext cx="230508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has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a repository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651640" y="2719440"/>
            <a:ext cx="309708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echnical activiti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eeded to verify compliance with safety require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own Arrow Callout 6"/>
          <p:cNvSpPr/>
          <p:nvPr/>
        </p:nvSpPr>
        <p:spPr>
          <a:xfrm>
            <a:off x="179280" y="2575080"/>
            <a:ext cx="8713800" cy="2160360"/>
          </a:xfrm>
          <a:prstGeom prst="downArrowCallout">
            <a:avLst>
              <a:gd name="adj1" fmla="val -13797"/>
              <a:gd name="adj2" fmla="val 22614"/>
              <a:gd name="adj3" fmla="val 15431"/>
              <a:gd name="adj4" fmla="val 77338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71800" y="511668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c0504d"/>
                </a:solidFill>
                <a:latin typeface="Calibri"/>
              </a:rPr>
              <a:t>For each area of experti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c0504d"/>
                </a:solidFill>
                <a:latin typeface="Calibri"/>
              </a:rPr>
              <a:t>Technical activities vs. Ph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47640" y="4800600"/>
            <a:ext cx="7777080" cy="1292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264960" y="13500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324000" y="558720"/>
            <a:ext cx="2257200" cy="161856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17600" indent="-417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afety requirements and topics from targe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17600" indent="-417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2700360" y="558720"/>
            <a:ext cx="187812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PG report on the review of a Safety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6603840" y="563400"/>
            <a:ext cx="216720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Other relevant references (IA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SG-23, IAEA GS-G-1.1</a:t>
            </a: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Down Arrow Callout 51"/>
          <p:cNvSpPr/>
          <p:nvPr/>
        </p:nvSpPr>
        <p:spPr>
          <a:xfrm>
            <a:off x="179280" y="55440"/>
            <a:ext cx="8713800" cy="2470320"/>
          </a:xfrm>
          <a:prstGeom prst="downArrowCallout">
            <a:avLst>
              <a:gd name="adj1" fmla="val -13811"/>
              <a:gd name="adj2" fmla="val 22601"/>
              <a:gd name="adj3" fmla="val 15431"/>
              <a:gd name="adj4" fmla="val 77338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4716360" y="563400"/>
            <a:ext cx="1739880" cy="161856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swers of WP partners to question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2A18-9D62-418E-A873-74E8D8FB5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target"/>
          <p:cNvPicPr/>
          <p:nvPr/>
        </p:nvPicPr>
        <p:blipFill>
          <a:blip r:embed="rId1"/>
          <a:srcRect l="14894" t="-4265" r="17597" b="-4354"/>
          <a:stretch/>
        </p:blipFill>
        <p:spPr>
          <a:xfrm>
            <a:off x="1692360" y="4854600"/>
            <a:ext cx="1332000" cy="1233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1"/>
          <p:cNvSpPr/>
          <p:nvPr/>
        </p:nvSpPr>
        <p:spPr>
          <a:xfrm>
            <a:off x="2165400" y="514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2133720"/>
            <a:ext cx="8351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33 areas with high level of urgency &amp; interest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Top priority to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on method &amp;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atures Events &amp; Processes (FE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90 needs for technical guidance and dialogue were identifi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D14C-DC4C-4EBF-BB6F-EDDF697C6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pository development i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stepwis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8E86-E3AB-41CD-82B8-CA4F78971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1" descr=""/>
          <p:cNvPicPr/>
          <p:nvPr/>
        </p:nvPicPr>
        <p:blipFill>
          <a:blip r:embed="rId1"/>
          <a:stretch/>
        </p:blipFill>
        <p:spPr>
          <a:xfrm>
            <a:off x="325440" y="1557360"/>
            <a:ext cx="8494560" cy="4448160"/>
          </a:xfrm>
          <a:prstGeom prst="rect">
            <a:avLst/>
          </a:prstGeom>
          <a:ln w="0">
            <a:noFill/>
          </a:ln>
        </p:spPr>
      </p:pic>
      <p:sp>
        <p:nvSpPr>
          <p:cNvPr id="292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050560" y="1628640"/>
            <a:ext cx="54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afety strategy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erational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21840" y="333360"/>
            <a:ext cx="84978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6 areas of expertise were identified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F9A-FE49-4DCC-A03C-53071465C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5183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For each area of expert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Need for expert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Review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Inspection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-468360" y="549000"/>
            <a:ext cx="10080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quired technical activities to check compliance with safety requireme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ere identified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ce réservé du numéro de diapositive 5"/>
          <p:cNvSpPr/>
          <p:nvPr/>
        </p:nvSpPr>
        <p:spPr>
          <a:xfrm>
            <a:off x="7164360" y="6381720"/>
            <a:ext cx="765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8A4-08DE-4E3B-BDC9-29EC48386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2411280" y="6381720"/>
            <a:ext cx="50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SITEX European Workshop – SENEC, 17/09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ight Brace 3"/>
          <p:cNvSpPr/>
          <p:nvPr/>
        </p:nvSpPr>
        <p:spPr>
          <a:xfrm>
            <a:off x="4932360" y="3213000"/>
            <a:ext cx="287280" cy="1584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584360"/>
              <a:gd name="textAreaBottom" fmla="*/ 1577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3"/>
                  <a:pt x="10800" y="326"/>
                </a:cubicBezTo>
                <a:lnTo>
                  <a:pt x="10800" y="10474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3"/>
                  <a:pt x="10800" y="11126"/>
                </a:cubicBezTo>
                <a:lnTo>
                  <a:pt x="10800" y="21274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5442840" y="371628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vs.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3:31:26Z</dcterms:created>
  <dc:creator>SERRES Christophe</dc:creator>
  <dc:description/>
  <dc:language>en-US</dc:language>
  <cp:lastModifiedBy>BERNIER Frédéric</cp:lastModifiedBy>
  <cp:lastPrinted>2013-01-23T11:09:27Z</cp:lastPrinted>
  <dcterms:modified xsi:type="dcterms:W3CDTF">2013-09-16T04:59:03Z</dcterms:modified>
  <cp:revision>425</cp:revision>
  <dc:subject/>
  <dc:title>SITEX project presentation</dc:title>
</cp:coreProperties>
</file>